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FE57-83CE-4124-90CF-D2273686F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1D556-A6A7-460E-9A3E-A14D2260E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E554-9C0A-49E4-AD11-8D926835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6E6C-BB46-4EFC-8A6D-1A7008A3B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2776-8050-403A-A5A4-DDC8423C1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B82-2334-487E-9CEB-B2F5C8D5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004-3465-4FB9-912A-A8B06A84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0A42-03F7-4476-8F0F-B0B11854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D36-E30A-406B-940F-B3E3940E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2E6-A9EA-43AA-8173-C1A82464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8A4-3DD3-4DCD-B54A-D27AFECF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4AF-F73E-462C-AF66-A009A5D7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2084-50C7-44EB-A73A-509E4896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0829-1D42-4AEE-8CF9-BFDDAC3D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44E1-E298-4109-8CB3-2994FCB5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6DC-8A8E-4ED4-A52A-C280AA98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ABD-7CC8-4E3E-BE21-78051DB5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F3B0-FEEE-421F-8BBD-11CEF1D84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ford Count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416556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2571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181480" y="0"/>
            <a:ext cx="3962520" cy="26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4"/>
          <a:stretch/>
        </p:blipFill>
        <p:spPr>
          <a:xfrm>
            <a:off x="5181480" y="4219560"/>
            <a:ext cx="39625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ford Springs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lace in America to have an Olympic sized poo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James Buchanan made this his, “summer White Hous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 1806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were coming to the Springs to drink the curative water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vity H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in the suburbs of New Paris, P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s roll uphill and water flows the wrong w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 30 West.  Turn right at the traffic light in Schellsburg.  Drive four miles and make a left onto Bethel Hollow Road.  Keep going straight and you will reach Gravity H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09320" y="456840"/>
            <a:ext cx="4953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Bed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51, Robert Ray constructed a log cabin and established a settlement along the Juniata River for the purpose of trading goods, such as pelts and furs, with the India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ea became known as Rayst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58, the advance guard of the army of General Forbes built a fort at Raystown during the French and Indian Wa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t Bedford (Part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me was changed to Fort Bedford in honor of the Duke of Bedford of Bedfordshire, Eng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 Bouquet is credited with the placement and construction of Fort Bedfor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 Bedford played a vital role in the French and Indian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fort aided the British to capture Fort Duquesne from the Fren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n of Bedf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w up around and in support of the fort, became a growing community in the mid-1760’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eets and alleys were laid out with four of the streets named after William Penn’s children: Richard, Juliana, Thomas, and Joh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816680" y="0"/>
            <a:ext cx="132732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of Pennsylv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0" y="23623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1536840" y="977760"/>
            <a:ext cx="7607160" cy="5880240"/>
          </a:xfrm>
          <a:prstGeom prst="rect">
            <a:avLst/>
          </a:prstGeom>
          <a:ln w="0">
            <a:noFill/>
          </a:ln>
        </p:spPr>
      </p:pic>
      <p:cxnSp>
        <p:nvCxnSpPr>
          <p:cNvPr id="64" name="Straight Arrow Connector 12"/>
          <p:cNvCxnSpPr/>
          <p:nvPr/>
        </p:nvCxnSpPr>
        <p:spPr>
          <a:xfrm>
            <a:off x="1219320" y="2590920"/>
            <a:ext cx="3124800" cy="2591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TextBox 14"/>
          <p:cNvSpPr/>
          <p:nvPr/>
        </p:nvSpPr>
        <p:spPr>
          <a:xfrm>
            <a:off x="0" y="1523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o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6"/>
          <p:cNvCxnSpPr/>
          <p:nvPr/>
        </p:nvCxnSpPr>
        <p:spPr>
          <a:xfrm>
            <a:off x="1371240" y="1904760"/>
            <a:ext cx="289620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Box 18"/>
          <p:cNvSpPr/>
          <p:nvPr/>
        </p:nvSpPr>
        <p:spPr>
          <a:xfrm>
            <a:off x="8640" y="38862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ts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20"/>
          <p:cNvCxnSpPr/>
          <p:nvPr/>
        </p:nvCxnSpPr>
        <p:spPr>
          <a:xfrm>
            <a:off x="1600200" y="4114440"/>
            <a:ext cx="99144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TextBox 22"/>
          <p:cNvSpPr/>
          <p:nvPr/>
        </p:nvSpPr>
        <p:spPr>
          <a:xfrm>
            <a:off x="9000" y="6172200"/>
            <a:ext cx="16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ri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24"/>
          <p:cNvCxnSpPr/>
          <p:nvPr/>
        </p:nvCxnSpPr>
        <p:spPr>
          <a:xfrm flipV="1">
            <a:off x="1447920" y="4723560"/>
            <a:ext cx="4420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71440" y="0"/>
            <a:ext cx="4267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dford Cou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626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9000" y="121932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r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6"/>
          <p:cNvCxnSpPr/>
          <p:nvPr/>
        </p:nvCxnSpPr>
        <p:spPr>
          <a:xfrm>
            <a:off x="989640" y="1752120"/>
            <a:ext cx="1524600" cy="442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9"/>
          <p:cNvSpPr/>
          <p:nvPr/>
        </p:nvSpPr>
        <p:spPr>
          <a:xfrm>
            <a:off x="1455840" y="10666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b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Straight Arrow Connector 11"/>
          <p:cNvCxnSpPr/>
          <p:nvPr/>
        </p:nvCxnSpPr>
        <p:spPr>
          <a:xfrm>
            <a:off x="2208600" y="1523520"/>
            <a:ext cx="686520" cy="350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Box 14"/>
          <p:cNvSpPr/>
          <p:nvPr/>
        </p:nvSpPr>
        <p:spPr>
          <a:xfrm>
            <a:off x="2976480" y="11430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16"/>
          <p:cNvCxnSpPr/>
          <p:nvPr/>
        </p:nvCxnSpPr>
        <p:spPr>
          <a:xfrm flipH="1">
            <a:off x="3504600" y="1828440"/>
            <a:ext cx="76680" cy="33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TextBox 18"/>
          <p:cNvSpPr/>
          <p:nvPr/>
        </p:nvSpPr>
        <p:spPr>
          <a:xfrm>
            <a:off x="3973320" y="1295280"/>
            <a:ext cx="188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nting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20"/>
          <p:cNvCxnSpPr/>
          <p:nvPr/>
        </p:nvCxnSpPr>
        <p:spPr>
          <a:xfrm flipH="1">
            <a:off x="4037760" y="1828800"/>
            <a:ext cx="686520" cy="358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TextBox 22"/>
          <p:cNvSpPr/>
          <p:nvPr/>
        </p:nvSpPr>
        <p:spPr>
          <a:xfrm>
            <a:off x="6177960" y="12952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24"/>
          <p:cNvCxnSpPr/>
          <p:nvPr/>
        </p:nvCxnSpPr>
        <p:spPr>
          <a:xfrm flipH="1">
            <a:off x="3961800" y="1828800"/>
            <a:ext cx="2515320" cy="449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TextBox 27"/>
          <p:cNvSpPr/>
          <p:nvPr/>
        </p:nvSpPr>
        <p:spPr>
          <a:xfrm>
            <a:off x="304920" y="639612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9"/>
          <p:cNvCxnSpPr/>
          <p:nvPr/>
        </p:nvCxnSpPr>
        <p:spPr>
          <a:xfrm>
            <a:off x="1447920" y="6248160"/>
            <a:ext cx="18295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TextBox 17"/>
          <p:cNvSpPr/>
          <p:nvPr/>
        </p:nvSpPr>
        <p:spPr>
          <a:xfrm>
            <a:off x="312480" y="58672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d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war did Fort Bedford play a vital ro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ch and Indian Wa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was Fort Bedford named after and what country was he fr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uke of Bedford (He was from Engl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two of the four streets named after William Penn’s children. (Golf Sh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hard, Juliana, Thomas, and Jo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hat year was Fort Bedford built?  (1656, 1758, 189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ford Statistics/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dford County is 102 miles west of the state capital, Harrisbur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in 1890 = 2, 2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 in 2000 = 3, 1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5000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dford Statistics/ Facts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Washington marched his army to Bedford in 1794 to subdue the Whiskey Rebellion. (Stayed at the ESPY Ho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Y House is now Gardeners Ca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bels were angered by a tax on whisk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bellion was stopped as 12, 950 militiamen were called to Bedford leaving the rebels without many ch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00:21:39Z</dcterms:created>
  <dc:creator>Tom  Otis</dc:creator>
  <dc:description/>
  <dc:language>en-US</dc:language>
  <cp:lastModifiedBy>Tom Otis</cp:lastModifiedBy>
  <cp:lastPrinted>2009-11-20T01:21:06Z</cp:lastPrinted>
  <dcterms:modified xsi:type="dcterms:W3CDTF">2010-11-03T01:44:11Z</dcterms:modified>
  <cp:revision>18</cp:revision>
  <dc:subject/>
  <dc:title>Bedford County History</dc:title>
</cp:coreProperties>
</file>